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C82-DDC3-4201-930B-38173DAF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766-F237-4FC5-B7AC-1D0523D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FC0-6762-4E33-A5A3-FF3735A8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DAC-47D7-4F14-A79D-DCE454F5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D24-60C9-42DA-BE02-A4277BF2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21D-0016-46C2-A59D-64D366B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A5F-1E4C-4CD4-A4CD-406EB18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9FE-91B2-452E-9A9F-4C47764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E36-2429-4E0E-B4FB-F862BFB7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2D5-0CCC-4F15-9D42-91B5441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7C8-1B42-47A0-A6CC-2CA8CAF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DB0-475C-4863-9FDC-E359A64C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BF1B-0457-488B-A498-09A37EC6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odore-roosevelt.com/trr19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R and the Trusts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209680" y="0"/>
            <a:ext cx="49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47840" y="380880"/>
            <a:ext cx="4635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rmiddle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alk Softly and Carry a Big Stick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r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 Lambek</cp:lastModifiedBy>
  <dcterms:modified xsi:type="dcterms:W3CDTF">2015-01-06T20:56:07Z</dcterms:modified>
  <cp:revision>3</cp:revision>
  <dc:subject/>
  <dc:title>Slide 1</dc:title>
</cp:coreProperties>
</file>